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772-D49B-4867-8B5B-B857D587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F1D-CDA0-4FF4-BF85-B08F4EF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578-7715-4212-BD40-501137EB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61E-59C9-4098-833B-8C185D5F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0DE4-DEFB-4B4A-83BF-D06CCD10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D4C5-A2BB-4B44-901C-5A0B3753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778C-F79A-4EFA-A2D0-EE6404F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D73C-1C2D-4AC6-B685-63C79F5B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2AB1-FB66-4AAA-9B74-8E4A66A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78F-EF5C-48A5-BE51-0207E6A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5B3-C5D9-466F-A62D-0936BF0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0FB-B025-4B2D-B1D4-21B7EB09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0DC-FEF0-461E-9EFE-CCFA4ED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E5C5-77DD-40D3-8796-FDB4079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3624-E112-4F91-AE8A-172E572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C72C-F9B4-471F-BAFA-4D3F2CFC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A7D4-6586-42C7-B20B-A6CEB5C1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A76-4A0A-406B-9B6D-3051347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1BA-F6B2-4C58-AA30-1829B25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DC8-473C-453F-8A8A-B49AA0F3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1B2-D279-46E1-921C-9BD35C0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D49-88C1-47E6-83D0-C42004AC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243-C631-4A81-845B-A600BC6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401-2296-4DE5-BEE4-263F424B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DD24-4A33-4D91-A6DA-826474346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8E56-FFCD-41D6-A2A5-B7C7B186B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cd5f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676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Judah Alone –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A Study of Zephaniah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Quarter 7, Lesson 15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Books of Zephaniah and Jeremiah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Pages 138-141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18F-ABDB-4A1A-903D-6E159437EA7B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onclu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near” judgment of Judah predicted by Zephaniah came very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ly king Josiah died in 609 B.C. and, just four years later, the army of Babylon invaded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God promised judgment (and it came), He promised a faithful remnant would ret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940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ph. 3:20 (KJV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at time will I bring you again, even in the time that I gather you: for I will make you a name and a praise among all people of the earth, when I turn back your captivity before your eyes, saith the L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7E1-B87A-4A9B-9767-C940E9308862}" type="slidenum">
              <a:t>10</a:t>
            </a:fld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troduction to Jeremiah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6DA-EACF-4AE1-899E-FFDEDCC6870D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Prophet Jeremiah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iest, son of Hilkiah; of the priestly city of Anathoth (a few miles north of Jerusal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prophesying during the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ar of Josiah’s reign to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with Habakkuk and Zephan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40 years in Judah and spanned the reigns of five k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prophesied about 10 more years in Egypt to a rebellious rem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BDD-9ECD-4292-9E48-65EF4318D813}" type="slidenum">
              <a:t>12</a:t>
            </a:fld>
          </a:p>
        </p:txBody>
      </p:sp>
    </p:spTree>
  </p:cSld>
  <p:transition>
    <p:wipe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Jeremiah’s Mis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oot out, to pull down, to destroy, to throw down, to build, to plant” (1: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clare irreversible judgment against the nation of Judah and other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mind them of their s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g repentance - knowing most would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phesy that Babylon would war against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mise a return of the remnant and a new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8A1-807A-4EF1-894E-3D5B34D3B060}" type="slidenum">
              <a:t>13</a:t>
            </a:fld>
          </a:p>
        </p:txBody>
      </p:sp>
    </p:spTree>
  </p:cSld>
  <p:transition>
    <p:wipe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A Brief Interrupt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interrupt our study of Josiah to study the words of a prop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rophets will be studied before we resume the acts of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phaniah (Lesson 1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 (Lesson 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um (Lesson 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gain a better appreciation of the environment of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6B5-C8D6-468F-9907-27506F170F02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01000" cy="1401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rophets During The Single Kingdom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ph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ssage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h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neveh (Assyri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nasse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Josiah (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phani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4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i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emi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2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iah - Zedeki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bakku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iak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D44-9CCC-455C-998C-2D743BF47B46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Prophet Zephaniah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prophesying during Josiah’s reign to the nation of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a doubt, a good influence on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Hezekiah (one of  the best kings) was Zephaniah’s great-great-grandf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“royal” line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 (cousin) to the young king Jos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with Habakkuk and Jeremi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2E7-2821-45A5-B7B3-3E26971A5349}" type="slidenum">
              <a:t>4</a:t>
            </a:fld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etting The Stage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sseh had ruled earlier for 5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wicked king in all of Judah’s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icked that the “nation” would never turn back to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 his son ruled for 2 years; just as ev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  God pronounced an irreversible judgment o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 Kings 21:11-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iah is now the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732-EAAC-49D7-A6DC-190ABEE115E7}" type="slidenum">
              <a:t>5</a:t>
            </a:fld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Purpose of Zephaniah’s Miss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ssist the godly king Josiah in his attempt to bring Judah back to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essage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as too late for the nation of Jud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was 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dividuals could still be saved from the coming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vival started within eight years after Josiah began his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2A5-53D8-47F2-88F2-E0B7C6CC8D29}" type="slidenum">
              <a:t>6</a:t>
            </a:fld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me of the Book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ay of the Lord” – Zeph. 1:7,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phets, it always refers to a day of judg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ioned 13 times in the book in some form, i.e., “that day,” “the day,”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514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ph. 1:7 (KJV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ld thy peace at the presence of the Lord God: for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day of the Lo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at hand: for the Lord hath prepared a sacrifice, he hath bid his gues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3434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eph. 1:14 (KJV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great day of the Lo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s near, it is near, and hasteth greatly, even the voice of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he day of the Lor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the mighty man shall cry there bitte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D06-5E20-462F-A35D-A8B173CF73AA}" type="slidenum">
              <a:t>7</a:t>
            </a:fld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day of the Lord”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then immi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ime of t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udgment for s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mpanied by great convulsions in 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fall upon all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remnant would surv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BDA-D6FE-4254-99C9-3910BB6C0632}" type="slidenum">
              <a:t>8</a:t>
            </a:fld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Outline of the Book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n the whole world (1:1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f the kingdom of Judah (1:4-1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hortation to repentance (2:1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 on certain other nations (2:4-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’s sin and punishment (3:1-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salvation and blessing (3:9-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A01-6B5B-47A5-9E2F-38E78C173551}" type="slidenum">
              <a:t>9</a:t>
            </a:fld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3:00:56Z</dcterms:created>
  <dc:creator>Frank D Vines</dc:creator>
  <dc:description/>
  <dc:language>en-US</dc:language>
  <cp:lastModifiedBy>Frank D Vines</cp:lastModifiedBy>
  <dcterms:modified xsi:type="dcterms:W3CDTF">2006-03-01T23:12:23Z</dcterms:modified>
  <cp:revision>40</cp:revision>
  <dc:subject/>
  <dc:title>The Book of Hos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